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BCA84-932B-4563-9946-B31F5CC8CF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move the slid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CD317-CFA0-4788-AACD-6EC6BE70E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21C9C-E5D7-4615-BA41-7514E2BBC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C7448-67C3-4B42-8A9D-0D1A5CDE9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EDF6-53D4-4D70-BABD-7CE8E291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0959-2567-43E0-A868-840E3636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5BA4-F551-46F5-A406-283E4351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795-D4DB-4FC0-B09F-CCD4123F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B96DB-D1A1-4280-8907-FE7A6929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BE80F-61E8-44DC-9936-B2D830EA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01A84-BAD5-4A4C-A77D-F99167B3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AEBEB-4B06-4EE4-994E-D5064E40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5CE19-6A44-469B-A46B-3157A6EA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CB5C0-D60E-43CC-8FA3-8C9E7667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846DC-A4F4-4F1B-AED9-1C8D7DE4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F3D4-12F1-4709-A209-7CEE7B75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26AE3-D223-457C-801E-F34CC7EF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770EA-801A-40D7-BDEC-B22D23FA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57946-2C50-4BC2-AA0E-98C679C9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70DA4-4FB6-41C7-ABD0-63C1C0FA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91931-41B7-4D6A-92C3-3A4127B2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34C2A-EC91-49A3-B623-E98B8330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F745F-9883-49AE-A488-4C68197B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2542B-CB7B-43B4-AF29-6E848725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717FD-0350-4B9A-8C77-FF7AB77C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80635-E131-4DB9-B6D4-8947416F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E2C9-1C30-464C-80AA-45D69E2E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6E5A0-8CCA-4715-BCF6-F3C87306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77C6D-91EE-4BCA-ABAB-4CA34AAE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F28B3-3EC7-43B8-8547-5FCE2DC7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15A34-6E32-4BF6-AA9A-272B8B18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B12D7-DD77-4CF4-8DCA-1073E2AE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7DBB1-7B1A-42E1-B6EA-3C8CCB17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A0AC7-C9E1-4657-AB81-6A6506CD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662F6-9926-4D30-9A27-6D9076CB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60CBF-88E0-412A-9F40-EA9447F9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21DAF-72CE-433A-93CE-0565F4D7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47D2-38A3-4FDE-87E7-E3D00B75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F7519-5F54-4992-BAF6-341E0AA2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B1421-E17B-4625-81BA-AF3D24D6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A119A-498C-4B6E-BB17-8A400C43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6311E-600D-4FE0-BEB0-C88BF6FD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73CA2-1A2A-4DCF-B038-8D2DC03C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1B151-D3FF-46CB-A7FE-733FE67B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91A66-22DB-45A5-BD43-9BF87ACA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3ADFA-B4BC-4998-907F-BC8FAF07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944BA-A5C8-4FE0-97AD-FAF617FA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D2FF9-543C-4815-8E62-658E6CCA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C90E-8A32-4BEA-8EBC-D53C2DAD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0983C-B955-4719-9526-5BAF2B9C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CD33E-9816-49DA-8A8A-F27AC822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18BB5-73A2-490B-89F3-5727E326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253AD-9B91-4BF3-BC21-587B86E2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0E435-ACD9-4D86-9904-AA8F2D64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86F77-C280-4D9A-9EFE-62105EBB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4A03F-5DBF-4F6C-B1DB-EE534419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E7265-C7DE-4516-9D23-68129F69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19DAF-A38E-4818-B76B-2AE77470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1F9F2-7A1C-44C9-9A89-048E3CF2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E5CB-EE38-472D-A395-37291720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86B28-98F1-49CF-8E74-4DD78B74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1F80B-A602-4E52-9B4C-F183C76C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DAA80-BC79-4DF1-9CE7-1D8DFC06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DF598-882D-4FD9-AA2A-ED5F7F17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DFC19-CD57-4BED-9B15-D8306FAD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8DB44-E2B6-4C3F-A29C-082E5BD1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AA985-9B58-4991-ACE3-01593162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B46C4-B34A-4AF4-AAD4-83FD46C0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46483-AB32-4AAE-8151-202D2AB3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AB910-7615-497B-984F-E877FDC5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C6E2-E8C2-4DA3-91DB-B71952D8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C831C-4F2F-4FC4-851D-A46B74CB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E8E42-10E9-43F4-923A-4218BB45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255F4-C404-4361-92B5-DAF3D32D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40A92-D389-41F6-BA73-E9146516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8D1B9-A95D-40E0-9B09-D92A7C82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58940-B75C-4FD2-8EAF-FAC0FBF6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9C88D-0C69-4E9F-B83C-2C6D4E3B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BEB3B-97C3-41C6-87F0-4872EE6F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755D2-6E0B-40A6-9071-115F7EDC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7116E-D722-4115-BAA7-8594D301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6B2C-2BD3-42F7-AA59-2D116196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97D95-634E-45EF-89AA-05D2764A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EC84D-CA60-416D-A293-B0E14899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69AA1-E263-446B-9150-E5D9A409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3C9CC-F8C2-43CA-8EEC-D4A0AF88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B1812-3141-49FF-B41B-F80CBDD3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1B2F8-C4FB-4F1D-B83F-C43CBA9E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E6497-A466-4816-A26B-C4EB52B6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D45E7-8C9E-4F11-BCDA-0F7A4065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BFDDC-1823-4295-9F79-D465FB21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A01CE-EA47-48C5-8D13-EDC0C94C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46B-459F-4CF6-B4EC-3152FFB0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2586F-127D-478C-8657-CE032C72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92175-4689-499D-A7F2-2ACCEA62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7F15C-B5BC-4D9D-B406-760ADCA2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4383B-4A1E-48A3-8106-401FB160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22C56-A46A-4A33-88A9-D73F3F83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F4696-3652-41BF-8C5F-DAA8CEE5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C651F-9AA4-416B-8AC7-30B5A261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DE70F-3965-4574-A33F-39A8F8AF802F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345638-8211-4F76-9951-BEB8C602DE7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7E8EC-4FD9-46A3-91B7-F17848572DD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8967A-9847-41C1-89B6-A19782A36071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DFEB5-4A5C-4E3B-8651-F5C9258D40E1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ECEE9B-BBE2-4937-92C1-166F1FCD07DE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A90F2-0B44-4E97-9BE2-0A208D5623B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7E2D9B-F9C8-4A86-A923-37F8DB88B43F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25D690-991C-43CA-A770-33C71A433BE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3D54C-5980-4B54-B932-136DF49E4CF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F8231-E502-433F-AB7C-27840BBB13F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75B5E9-D59F-49CC-AB88-5F39B445E99F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FA9B0-0028-4E9C-9BD9-55729FBEA9B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43ACF-7BAC-41A7-B0FD-8E958641865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0BB79-CCC1-4063-BB66-E7626EB6FAC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A2B6B-5B20-48DA-82AD-E8B490D58B1D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Religion of Mesopotamia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79940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sto MT"/>
              </a:rPr>
              <a:t>Angelica Partyka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8800" y="653760"/>
            <a:ext cx="3657600" cy="10983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alisto MT"/>
              </a:rPr>
              <a:t>Social Classes</a:t>
            </a:r>
            <a:endParaRPr b="0" lang="en-US" sz="3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0" name="Isosceles Triangle 8"/>
          <p:cNvSpPr/>
          <p:nvPr/>
        </p:nvSpPr>
        <p:spPr>
          <a:xfrm>
            <a:off x="1371600" y="1353960"/>
            <a:ext cx="5842080" cy="5131080"/>
          </a:xfrm>
          <a:prstGeom prst="triangle">
            <a:avLst>
              <a:gd name="adj" fmla="val 47986"/>
            </a:avLst>
          </a:prstGeom>
          <a:gradFill rotWithShape="0">
            <a:gsLst>
              <a:gs pos="0">
                <a:srgbClr val="790000">
                  <a:alpha val="90196"/>
                </a:srgbClr>
              </a:gs>
              <a:gs pos="100000">
                <a:srgbClr val="af0000">
                  <a:alpha val="90196"/>
                </a:srgbClr>
              </a:gs>
            </a:gsLst>
            <a:lin ang="5400000"/>
          </a:gradFill>
          <a:ln w="158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traight Connector 10"/>
          <p:cNvSpPr/>
          <p:nvPr/>
        </p:nvSpPr>
        <p:spPr>
          <a:xfrm>
            <a:off x="3335400" y="2855880"/>
            <a:ext cx="1738080" cy="1800"/>
          </a:xfrm>
          <a:prstGeom prst="line">
            <a:avLst/>
          </a:prstGeom>
          <a:ln w="34920">
            <a:solidFill>
              <a:srgbClr val="2b80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12"/>
          <p:cNvSpPr/>
          <p:nvPr/>
        </p:nvSpPr>
        <p:spPr>
          <a:xfrm flipV="1">
            <a:off x="1978200" y="5366880"/>
            <a:ext cx="4674960" cy="34920"/>
          </a:xfrm>
          <a:prstGeom prst="line">
            <a:avLst/>
          </a:prstGeom>
          <a:ln w="34920">
            <a:solidFill>
              <a:srgbClr val="2b80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13"/>
          <p:cNvSpPr/>
          <p:nvPr/>
        </p:nvSpPr>
        <p:spPr>
          <a:xfrm>
            <a:off x="2773440" y="3827520"/>
            <a:ext cx="2882880" cy="1440"/>
          </a:xfrm>
          <a:prstGeom prst="line">
            <a:avLst/>
          </a:prstGeom>
          <a:ln w="34920">
            <a:solidFill>
              <a:srgbClr val="2b80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6"/>
          <p:cNvSpPr/>
          <p:nvPr/>
        </p:nvSpPr>
        <p:spPr>
          <a:xfrm>
            <a:off x="4978440" y="15908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s, Landlords, some pri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7"/>
          <p:cNvSpPr/>
          <p:nvPr/>
        </p:nvSpPr>
        <p:spPr>
          <a:xfrm>
            <a:off x="5433840" y="2844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lthy merch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31"/>
          <p:cNvSpPr/>
          <p:nvPr/>
        </p:nvSpPr>
        <p:spPr>
          <a:xfrm>
            <a:off x="6248520" y="380844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mer (most of the socie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32"/>
          <p:cNvSpPr/>
          <p:nvPr/>
        </p:nvSpPr>
        <p:spPr>
          <a:xfrm>
            <a:off x="7213680" y="4662360"/>
            <a:ext cx="177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aptured from war, children used to pay dep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Straight Arrow Connector 34"/>
          <p:cNvCxnSpPr/>
          <p:nvPr/>
        </p:nvCxnSpPr>
        <p:spPr>
          <a:xfrm flipH="1">
            <a:off x="4977720" y="2235600"/>
            <a:ext cx="456120" cy="321480"/>
          </a:xfrm>
          <a:prstGeom prst="straightConnector1">
            <a:avLst/>
          </a:prstGeom>
          <a:ln w="3492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399" name="Straight Arrow Connector 36"/>
          <p:cNvCxnSpPr/>
          <p:nvPr/>
        </p:nvCxnSpPr>
        <p:spPr>
          <a:xfrm flipH="1">
            <a:off x="5433480" y="3214800"/>
            <a:ext cx="442080" cy="273240"/>
          </a:xfrm>
          <a:prstGeom prst="straightConnector1">
            <a:avLst/>
          </a:prstGeom>
          <a:ln w="3492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400" name="Straight Arrow Connector 40"/>
          <p:cNvCxnSpPr/>
          <p:nvPr/>
        </p:nvCxnSpPr>
        <p:spPr>
          <a:xfrm flipH="1">
            <a:off x="6248160" y="4453560"/>
            <a:ext cx="405360" cy="208440"/>
          </a:xfrm>
          <a:prstGeom prst="straightConnector1">
            <a:avLst/>
          </a:prstGeom>
          <a:ln w="3492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401" name="Straight Arrow Connector 42"/>
          <p:cNvCxnSpPr>
            <a:stCxn id="397" idx="1"/>
          </p:cNvCxnSpPr>
          <p:nvPr/>
        </p:nvCxnSpPr>
        <p:spPr>
          <a:xfrm flipH="1">
            <a:off x="6874920" y="5401080"/>
            <a:ext cx="338760" cy="305640"/>
          </a:xfrm>
          <a:prstGeom prst="straightConnector1">
            <a:avLst/>
          </a:prstGeom>
          <a:ln w="34920">
            <a:solidFill>
              <a:srgbClr val="99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Arts of Mesopotamia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7994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58800" y="1998720"/>
            <a:ext cx="3657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Art was made to glorify powerful dynastie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Made to reflect their beliefs in God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Believed in afterlife, and decorated the tombs with art, furniture and item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05" name="Content Placeholder 3" descr="ram.jpg"/>
          <p:cNvPicPr/>
          <p:nvPr/>
        </p:nvPicPr>
        <p:blipFill>
          <a:blip r:embed="rId1"/>
          <a:srcRect l="0" t="-1207" r="0" b="-1207"/>
          <a:stretch/>
        </p:blipFill>
        <p:spPr>
          <a:xfrm>
            <a:off x="4827600" y="7650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8800" y="1404720"/>
            <a:ext cx="3657600" cy="10983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alisto MT"/>
              </a:rPr>
              <a:t>Materials used</a:t>
            </a:r>
            <a:endParaRPr b="0" lang="en-US" sz="3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407" name="Content Placeholder 5" descr="mesop2.jpg"/>
          <p:cNvPicPr/>
          <p:nvPr/>
        </p:nvPicPr>
        <p:blipFill>
          <a:blip r:embed="rId1"/>
          <a:srcRect l="0" t="-4933" r="0" b="-4933"/>
          <a:stretch/>
        </p:blipFill>
        <p:spPr>
          <a:xfrm>
            <a:off x="4316400" y="538200"/>
            <a:ext cx="4027680" cy="604188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58800" y="2971800"/>
            <a:ext cx="3657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Marble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Red sandstone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Shell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Stone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2132280" y="276120"/>
            <a:ext cx="7824600" cy="13240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Location…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302160" y="1600200"/>
            <a:ext cx="284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8200" indent="-268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68200" indent="-268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68200" indent="-268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Mesopotamia is located east of the Mediterranean Sea.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68200" indent="-268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68200" indent="-268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North of the Syrian Desert &amp; Arabian Desert.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68200" indent="-268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68200" indent="-268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It is called the ‘Fertile Crescent’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1"/>
          <a:stretch/>
        </p:blipFill>
        <p:spPr>
          <a:xfrm>
            <a:off x="658800" y="2124000"/>
            <a:ext cx="5351400" cy="4002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"/>
          <p:cNvPicPr/>
          <p:nvPr/>
        </p:nvPicPr>
        <p:blipFill>
          <a:blip r:embed="rId2"/>
          <a:stretch/>
        </p:blipFill>
        <p:spPr>
          <a:xfrm>
            <a:off x="6958080" y="277920"/>
            <a:ext cx="1490760" cy="18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4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Mesopotamian Contributions…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The ancient Sumerians created the world's first civilization where people settled together in one area known as the city-state.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Sumerians creation of Writing.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The water clock,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tretch/>
        </p:blipFill>
        <p:spPr>
          <a:xfrm>
            <a:off x="4836960" y="3533760"/>
            <a:ext cx="2806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1" dur="2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6" dur="2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20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179280" y="752040"/>
            <a:ext cx="7772400" cy="8701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Trade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371600" y="1187280"/>
            <a:ext cx="640080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Mesopotamia did not have many natural resources.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Therefore they needed to trade with neighboring countries.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Grain, Oils &amp; Textiles were taken to Babylonia….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To be exchanged for timber, wine and stones.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There were several methods used to transport goods;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Grai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 by boat.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Stone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 by foot or donkey</a:t>
            </a:r>
            <a:r>
              <a:rPr b="0" lang="en-US" sz="1800" spc="-1" strike="noStrike">
                <a:solidFill>
                  <a:srgbClr val="898989"/>
                </a:solidFill>
                <a:latin typeface="Calisto MT"/>
              </a:rPr>
              <a:t>.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6492960" y="5248440"/>
            <a:ext cx="2651040" cy="16095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"/>
          <p:cNvPicPr/>
          <p:nvPr/>
        </p:nvPicPr>
        <p:blipFill>
          <a:blip r:embed="rId2"/>
          <a:stretch/>
        </p:blipFill>
        <p:spPr>
          <a:xfrm>
            <a:off x="165240" y="3800520"/>
            <a:ext cx="2412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9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9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9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9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900" fill="hold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 fill="hold"/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Economy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2286000" y="2023920"/>
            <a:ext cx="6197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2800" indent="-262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sto MT"/>
              </a:rPr>
              <a:t>Based on Agriculture       </a:t>
            </a:r>
            <a:endParaRPr b="0" lang="en-US" sz="1600" spc="-1" strike="noStrike">
              <a:solidFill>
                <a:srgbClr val="262626"/>
              </a:solidFill>
              <a:latin typeface="Calisto MT"/>
            </a:endParaRPr>
          </a:p>
          <a:p>
            <a:pPr marL="262800" indent="-262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sto MT"/>
              </a:rPr>
              <a:t>Cultivation of Barley</a:t>
            </a:r>
            <a:endParaRPr b="0" lang="en-US" sz="1600" spc="-1" strike="noStrike">
              <a:solidFill>
                <a:srgbClr val="262626"/>
              </a:solidFill>
              <a:latin typeface="Calisto MT"/>
            </a:endParaRPr>
          </a:p>
          <a:p>
            <a:pPr marL="262800" indent="-262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7f7f7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7f7f7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7f7f7f"/>
                </a:solidFill>
                <a:latin typeface="Calisto MT"/>
              </a:rPr>
              <a:t>to make Beer</a:t>
            </a:r>
            <a:endParaRPr b="0" lang="en-US" sz="1600" spc="-1" strike="noStrike">
              <a:solidFill>
                <a:srgbClr val="262626"/>
              </a:solidFill>
              <a:latin typeface="Calisto MT"/>
            </a:endParaRPr>
          </a:p>
          <a:p>
            <a:pPr marL="262800" indent="-262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sto MT"/>
              </a:rPr>
              <a:t>Other products are;</a:t>
            </a:r>
            <a:endParaRPr b="0" lang="en-US" sz="1600" spc="-1" strike="noStrike">
              <a:solidFill>
                <a:srgbClr val="262626"/>
              </a:solidFill>
              <a:latin typeface="Calisto MT"/>
            </a:endParaRPr>
          </a:p>
          <a:p>
            <a:pPr marL="262800" indent="-262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sto MT"/>
              </a:rPr>
              <a:t>Oil (sesame seeds, linseed)</a:t>
            </a:r>
            <a:endParaRPr b="0" lang="en-US" sz="1600" spc="-1" strike="noStrike">
              <a:solidFill>
                <a:srgbClr val="262626"/>
              </a:solidFill>
              <a:latin typeface="Calisto MT"/>
            </a:endParaRPr>
          </a:p>
          <a:p>
            <a:pPr marL="262800" indent="-262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sto MT"/>
              </a:rPr>
              <a:t>Flax</a:t>
            </a:r>
            <a:endParaRPr b="0" lang="en-US" sz="1600" spc="-1" strike="noStrike">
              <a:solidFill>
                <a:srgbClr val="262626"/>
              </a:solidFill>
              <a:latin typeface="Calisto MT"/>
            </a:endParaRPr>
          </a:p>
          <a:p>
            <a:pPr marL="262800" indent="-262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sto MT"/>
              </a:rPr>
              <a:t>Wheat</a:t>
            </a:r>
            <a:endParaRPr b="0" lang="en-US" sz="1600" spc="-1" strike="noStrike">
              <a:solidFill>
                <a:srgbClr val="262626"/>
              </a:solidFill>
              <a:latin typeface="Calisto MT"/>
            </a:endParaRPr>
          </a:p>
          <a:p>
            <a:pPr marL="262800" indent="-262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sto MT"/>
              </a:rPr>
              <a:t>The South of Mesopotamia has always had a different economy </a:t>
            </a:r>
            <a:endParaRPr b="0" lang="en-US" sz="1600" spc="-1" strike="noStrike">
              <a:solidFill>
                <a:srgbClr val="262626"/>
              </a:solidFill>
              <a:latin typeface="Calisto MT"/>
            </a:endParaRPr>
          </a:p>
          <a:p>
            <a:pPr marL="262800" indent="-26280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262626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Calisto MT"/>
              </a:rPr>
              <a:t>based on dates and fishing</a:t>
            </a:r>
            <a:endParaRPr b="0" lang="en-US" sz="16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1"/>
          <a:stretch/>
        </p:blipFill>
        <p:spPr>
          <a:xfrm>
            <a:off x="457200" y="345960"/>
            <a:ext cx="250812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8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1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8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1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8" dur="10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3" dur="1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10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3" dur="1000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8" dur="1000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Languag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sto MT"/>
              </a:rPr>
              <a:t>Mesopotamia had one of the first recorded language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sto MT"/>
              </a:rPr>
              <a:t>Invented to keep track of farming and trade.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sto MT"/>
              </a:rPr>
              <a:t>The form of writing was called Cuneiform.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sto MT"/>
              </a:rPr>
              <a:t>Earliest form of writing in the World.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25" name="Picture 3" descr=""/>
          <p:cNvPicPr/>
          <p:nvPr/>
        </p:nvPicPr>
        <p:blipFill>
          <a:blip r:embed="rId1"/>
          <a:stretch/>
        </p:blipFill>
        <p:spPr>
          <a:xfrm>
            <a:off x="457200" y="4017960"/>
            <a:ext cx="2690640" cy="2584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"/>
          <p:cNvPicPr/>
          <p:nvPr/>
        </p:nvPicPr>
        <p:blipFill>
          <a:blip r:embed="rId2"/>
          <a:stretch/>
        </p:blipFill>
        <p:spPr>
          <a:xfrm>
            <a:off x="658800" y="2478240"/>
            <a:ext cx="1805040" cy="12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652320" y="450720"/>
            <a:ext cx="7839360" cy="14814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0" y="2064960"/>
            <a:ext cx="6688080" cy="39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5320" indent="-2653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Sumer – Only upper-class boys attended schools. They mainly learned how to write and spell by copying religious books and songs. Also learned history and mathematics. 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marL="265320" indent="-2653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	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marL="265320" indent="-2653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Assyria – Education started at the age of 14. They had a Base 60 system, and we use it for time. In present time Mathematics we mainly use a Base 10 system.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marL="265320" indent="-2653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They learned: </a:t>
            </a: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	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lvl="2" marL="808560" indent="-26532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laws and how the government worked, how to worship gods.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lvl="2" marL="808560" indent="-26532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To speak the truth ad follow laws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lvl="2" marL="808560" indent="-26532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Use courage against fear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5951520" y="5307120"/>
            <a:ext cx="289260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Polytheism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2077560"/>
            <a:ext cx="408312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Believed in many God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3,000 God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God were immorta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Each God controlled various forces of natur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Gods were all powerfu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Humans were just their servant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Each city had its own God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8800" y="1644480"/>
            <a:ext cx="3657600" cy="1098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alisto MT"/>
              </a:rPr>
              <a:t>Enlil</a:t>
            </a:r>
            <a:endParaRPr b="0" lang="en-US" sz="3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69" name="Content Placeholder 4" descr="images-1.jpeg"/>
          <p:cNvPicPr/>
          <p:nvPr/>
        </p:nvPicPr>
        <p:blipFill>
          <a:blip r:embed="rId1"/>
          <a:srcRect l="0" t="-2803" r="0" b="-2803"/>
          <a:stretch/>
        </p:blipFill>
        <p:spPr>
          <a:xfrm>
            <a:off x="5006880" y="1022400"/>
            <a:ext cx="3376800" cy="50655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8800" y="2774880"/>
            <a:ext cx="3657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Most powerful God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God of storm and air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Humans feared him as “the raging flood that has no rival”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58800" y="1644480"/>
            <a:ext cx="3657600" cy="1098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alisto MT"/>
              </a:rPr>
              <a:t>Ugallu</a:t>
            </a:r>
            <a:endParaRPr b="0" lang="en-US" sz="3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72" name="Content Placeholder 4" descr="mesopotamia_babylonian_god.jpg"/>
          <p:cNvPicPr/>
          <p:nvPr/>
        </p:nvPicPr>
        <p:blipFill>
          <a:blip r:embed="rId1"/>
          <a:srcRect l="0" t="-1199" r="0" b="-1199"/>
          <a:stretch/>
        </p:blipFill>
        <p:spPr>
          <a:xfrm>
            <a:off x="4827600" y="654120"/>
            <a:ext cx="3657600" cy="548640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58800" y="2774880"/>
            <a:ext cx="3657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Good Demon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Protected humans from bad Demons who brought disease, misfortune and misery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1360" y="1095120"/>
            <a:ext cx="4386240" cy="10983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alisto MT"/>
              </a:rPr>
              <a:t>“</a:t>
            </a:r>
            <a:r>
              <a:rPr b="0" lang="en-US" sz="3600" spc="-1" strike="noStrike">
                <a:solidFill>
                  <a:srgbClr val="990000"/>
                </a:solidFill>
                <a:latin typeface="Calisto MT"/>
              </a:rPr>
              <a:t>Epic of Gilgamesh”</a:t>
            </a:r>
            <a:endParaRPr b="0" lang="en-US" sz="3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75" name="Content Placeholder 9" descr="epic-of-gilgamesh.jpg"/>
          <p:cNvPicPr/>
          <p:nvPr/>
        </p:nvPicPr>
        <p:blipFill>
          <a:blip r:embed="rId1"/>
          <a:srcRect l="0" t="-15349" r="0" b="-15349"/>
          <a:stretch/>
        </p:blipFill>
        <p:spPr>
          <a:xfrm rot="702600">
            <a:off x="4565160" y="808200"/>
            <a:ext cx="3657600" cy="54864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58800" y="2774880"/>
            <a:ext cx="3657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Oldest story in the world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A myth about a God from Mesopotamia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52320" y="450720"/>
            <a:ext cx="7839360" cy="14702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348840" y="1998360"/>
            <a:ext cx="438012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5320" indent="-2653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umerian – Sumer, one of the oldest civilizations, consisted of different city-states. They were run by different Sumerian rulers, both secular and religious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65320" indent="-2653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ssyrian – The Assyrian king had total power. The Assyrians were the first people to have an efficient way of running an Empire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65320" indent="-2653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Persian -  The Persian kings were very wise rulers. They thought highly of justice; made sure laws are followed.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4722840" y="2205000"/>
            <a:ext cx="440352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2002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8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sto MT"/>
              </a:rPr>
              <a:t>Most of the civilizations in Mesopotamia used the Hammurabi’s Code. The set of laws were written by King Hammurabi. It consisted of 282 specific laws.</a:t>
            </a:r>
            <a:endParaRPr b="0" lang="en-US" sz="22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sto MT"/>
              </a:rPr>
              <a:t>Most of the laws dealt with:</a:t>
            </a:r>
            <a:endParaRPr b="0" lang="en-US" sz="22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sto MT"/>
              </a:rPr>
              <a:t>Community </a:t>
            </a:r>
            <a:endParaRPr b="0" lang="en-US" sz="22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sto MT"/>
              </a:rPr>
              <a:t>Family relations</a:t>
            </a:r>
            <a:endParaRPr b="0" lang="en-US" sz="22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sto MT"/>
              </a:rPr>
              <a:t>Business conduct </a:t>
            </a:r>
            <a:endParaRPr b="0" lang="en-US" sz="22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sto MT"/>
              </a:rPr>
              <a:t>Crime</a:t>
            </a:r>
            <a:endParaRPr b="0" lang="en-US" sz="22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5716440" y="2573280"/>
            <a:ext cx="274824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Culture of Mesopotamia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7994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58800" y="1176120"/>
            <a:ext cx="3657600" cy="5778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alisto MT"/>
              </a:rPr>
              <a:t>Foods</a:t>
            </a:r>
            <a:endParaRPr b="0" lang="en-US" sz="3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86" name="Content Placeholder 6" descr="spices.jpg"/>
          <p:cNvPicPr/>
          <p:nvPr/>
        </p:nvPicPr>
        <p:blipFill>
          <a:blip r:embed="rId1"/>
          <a:srcRect l="-18327" t="0" r="-18327" b="0"/>
          <a:stretch/>
        </p:blipFill>
        <p:spPr>
          <a:xfrm>
            <a:off x="3041640" y="905040"/>
            <a:ext cx="4689360" cy="343044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12480" y="1869840"/>
            <a:ext cx="4003560" cy="36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Soups                                                            beer and brewery products                 flours and bread                              syrups and honey                                 oils and fats                                        spices                                                  Seeds                                                   dairy products                                  pulses emmer                                    wheat barley straws                           fruits: figs, raisins, pomegranates dates salt and condiments                         melons and cucumber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88" name="Picture 5" descr="AA026350.png"/>
          <p:cNvPicPr/>
          <p:nvPr/>
        </p:nvPicPr>
        <p:blipFill>
          <a:blip r:embed="rId2"/>
          <a:stretch/>
        </p:blipFill>
        <p:spPr>
          <a:xfrm rot="20938200">
            <a:off x="5491080" y="4662000"/>
            <a:ext cx="312120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1:41:32Z</dcterms:created>
  <dc:creator>IT User</dc:creator>
  <dc:description/>
  <dc:language>en-US</dc:language>
  <cp:lastModifiedBy>IT User</cp:lastModifiedBy>
  <dcterms:modified xsi:type="dcterms:W3CDTF">2010-09-27T12:05:24Z</dcterms:modified>
  <cp:revision>12</cp:revision>
  <dc:subject/>
  <dc:title>Religion</dc:title>
</cp:coreProperties>
</file>